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553-C3F8-4554-A459-0AF5509E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4E5-B14E-472E-AC22-CF0ECF3D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9B3-FCD9-4E48-9DB4-762B31DA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6BD-65C0-4A97-A5D7-DE52A07C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011-845E-453F-ACC4-9E0E8FA1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5EF7-8849-43B7-9CA4-21EC49E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DA6B-8F76-4CF1-B5AB-F6FF4693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7901-BB96-4075-9696-3EFEBF93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C5B1-2355-43D0-8A21-96364B82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CEB1-3034-4C56-B725-8FB4EEF1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4979-48A0-4E51-B35C-B421DC01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19A-2B82-484B-9539-1E6AEBC6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A29A-B056-4895-90A8-18F68485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077B-BB0B-43BF-88C3-F70C9E14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423-E321-411B-A550-659BF155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0475-799F-4BF2-BC5A-7BE117BF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C8D-9141-4D16-A6D4-C6444699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D96-7243-4ECE-8033-693C2854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B15-2116-4012-A8EA-AF87D6EA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407-30B2-4678-B5EB-882F766A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C71-DC38-417F-A80B-DCD5F578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496-3461-463C-A7B3-8BEC4960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849-5F2C-469D-8337-F2FE74E5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FAA-4C6B-45B8-A22D-2A8BF463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C65-2E31-4DC0-A0B4-ACAB206C7F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5A2-5C56-4271-A36A-344FCFFABA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eb.mit.edu/invent/iow/skateboard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 rot="20290800">
            <a:off x="167760" y="-58680"/>
            <a:ext cx="629784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kateboared</a:t>
            </a:r>
            <a:endParaRPr b="0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4840200"/>
            <a:ext cx="1524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y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\27\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019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vented by: Alan Ollie Gelf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ion: Skatebo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kateboard was originally known as surfing out of water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ateboarding has recently made a comeback as both a comeback and a pastime spo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’s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ost topped rated spo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ids attached roller skates onto wood boar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n’t un’till 1958 that the modern skateboard was develop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or: Alan Ollie Gelf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named the skateboard trick ‘Ollie” after himsel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an was born 199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were more than one person who came up with the idea but he was the one to name it and publish the skateboar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an has been notice for the trick Ollie more then creating the skate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first came up with a piece of wood and tied skates to the wood before he had the skateboard we have now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Skateboard"/>
          <p:cNvPicPr/>
          <p:nvPr/>
        </p:nvPicPr>
        <p:blipFill>
          <a:blip r:embed="rId1"/>
          <a:stretch/>
        </p:blipFill>
        <p:spPr>
          <a:xfrm>
            <a:off x="0" y="0"/>
            <a:ext cx="7696080" cy="2819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Eric Dressen bluntsiding on skateboard"/>
          <p:cNvPicPr/>
          <p:nvPr/>
        </p:nvPicPr>
        <p:blipFill>
          <a:blip r:embed="rId2"/>
          <a:stretch/>
        </p:blipFill>
        <p:spPr>
          <a:xfrm>
            <a:off x="0" y="2819520"/>
            <a:ext cx="4572000" cy="403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Daniel Haney 50/50-ing on skateboard"/>
          <p:cNvPicPr/>
          <p:nvPr/>
        </p:nvPicPr>
        <p:blipFill>
          <a:blip r:embed="rId3"/>
          <a:stretch/>
        </p:blipFill>
        <p:spPr>
          <a:xfrm>
            <a:off x="7715160" y="0"/>
            <a:ext cx="1428840" cy="2762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48320" y="3048120"/>
            <a:ext cx="4495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– MIT Program,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skatebo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9\29\10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eb.mit.edu/invent/iow/skateboard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0:46Z</dcterms:created>
  <dc:creator>install</dc:creator>
  <dc:description/>
  <dc:language>en-US</dc:language>
  <cp:lastModifiedBy>install</cp:lastModifiedBy>
  <dcterms:modified xsi:type="dcterms:W3CDTF">2010-10-14T17:29:17Z</dcterms:modified>
  <cp:revision>18</cp:revision>
  <dc:subject/>
  <dc:title>Slide 1</dc:title>
</cp:coreProperties>
</file>